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13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1F7C-2064-4527-9591-7B3BC3BC6F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句之间停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句之间停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647-E065-4D90-9E62-2ABA0A95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15E-45E4-4356-A0C9-9254329D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BAE-802A-4357-854F-FE99E7FD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C53-0D7B-4EC8-BDBD-B145ACED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274-EF8C-49A1-AFB1-0DC488C5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473-C487-46F8-A5D6-5E2A30BD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CC6-A7EE-49F7-A8DF-5FF008AF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FE9-D8C2-4BCD-81B6-8C5B953F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1D5-1DDC-4744-AC58-2D30852F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FE6-70D1-4914-A135-466B1070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9B2-C677-4B48-92CD-0473A368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1D5-CEF0-4539-AEA3-F2FAD601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593-A5E6-46D5-B6BE-988766FE40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U2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RITAIN AND IRELAND 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星期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5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:40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讲课教师   </a:t>
            </a:r>
            <a:r>
              <a:rPr b="1" lang="zh-CN" sz="4000" spc="-1" strike="noStrike">
                <a:solidFill>
                  <a:srgbClr val="ffff66"/>
                </a:solidFill>
                <a:latin typeface="宋体"/>
              </a:rPr>
              <a:t>赖丽燕  人民大学附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79840" y="121428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      on        off     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38680" y="265896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75320" y="41068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514600"/>
            <a:ext cx="58672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don is ______ the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utheast of Eng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Cardiff is ______ the 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Lond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306680" y="23544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74880" y="43354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3520" y="114300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      on        off     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209680"/>
            <a:ext cx="6096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 Cardiff is ______ the south    coast of W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re are many islands   ______ the northwest coast of Scotlan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4222t008" descr=""/>
          <p:cNvPicPr/>
          <p:nvPr/>
        </p:nvPicPr>
        <p:blipFill>
          <a:blip r:embed="rId1"/>
          <a:srcRect l="0" t="0" r="0" b="4906"/>
          <a:stretch/>
        </p:blipFill>
        <p:spPr>
          <a:xfrm>
            <a:off x="1676520" y="990720"/>
            <a:ext cx="5943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20360" y="1676520"/>
            <a:ext cx="521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ch island is large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itain or Irel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122868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73640" y="3581280"/>
            <a:ext cx="517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larger of the tw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slands is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5680" y="1143000"/>
            <a:ext cx="4041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o the let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K” stand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400800" y="1066680"/>
          <a:ext cx="149400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066680"/>
                    <a:ext cx="149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278880" y="3048120"/>
            <a:ext cx="485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letters “UK” st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:The United Kingd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Great Britain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orthern Ireland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bjx0201ZW_0029_1" descr=""/>
          <p:cNvPicPr/>
          <p:nvPr/>
        </p:nvPicPr>
        <p:blipFill>
          <a:blip r:embed="rId3"/>
          <a:srcRect l="4736" t="2955" r="5419" b="5598"/>
          <a:stretch/>
        </p:blipFill>
        <p:spPr>
          <a:xfrm>
            <a:off x="1676520" y="2895480"/>
            <a:ext cx="1447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5920" y="1073160"/>
            <a:ext cx="469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“UK”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p o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07480" y="2895480"/>
            <a:ext cx="455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“UK” is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p of Scotlan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ales, England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Northern Ire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15128" b="0"/>
          <a:stretch/>
        </p:blipFill>
        <p:spPr>
          <a:xfrm>
            <a:off x="1371600" y="2743200"/>
            <a:ext cx="2057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6440" y="1447920"/>
            <a:ext cx="49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capital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tl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2520" y="3657600"/>
            <a:ext cx="34390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Edinbur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50160" y="1371600"/>
            <a:ext cx="5973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Scotland famous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906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4222t017" descr=""/>
          <p:cNvPicPr/>
          <p:nvPr/>
        </p:nvPicPr>
        <p:blipFill>
          <a:blip r:embed="rId2"/>
          <a:srcRect l="0" t="0" r="0" b="7689"/>
          <a:stretch/>
        </p:blipFill>
        <p:spPr>
          <a:xfrm>
            <a:off x="838080" y="4419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2438280"/>
            <a:ext cx="52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cotland is famous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s beautiful country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0" y="1295280"/>
            <a:ext cx="3964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capit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Wa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1493640" cy="1576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4222t012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4114800" cy="290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73400" y="4124160"/>
            <a:ext cx="183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ardif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47360" y="838080"/>
            <a:ext cx="4153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there many c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es in Wa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488280" y="1143000"/>
          <a:ext cx="1083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8280" y="1143000"/>
                    <a:ext cx="1083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4222t010" descr=""/>
          <p:cNvPicPr/>
          <p:nvPr/>
        </p:nvPicPr>
        <p:blipFill>
          <a:blip r:embed="rId3"/>
          <a:stretch/>
        </p:blipFill>
        <p:spPr>
          <a:xfrm>
            <a:off x="1447920" y="236232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5880" y="1676520"/>
            <a:ext cx="281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Unit 2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2360" y="3200400"/>
            <a:ext cx="723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RITAIN AND IRE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1523880"/>
            <a:ext cx="655308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re used to be a lot of co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ines in the south, but many of them have been closed, or are about to be clo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990720"/>
            <a:ext cx="4953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capital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8280" y="11430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906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7172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4222t004" descr=""/>
          <p:cNvPicPr/>
          <p:nvPr/>
        </p:nvPicPr>
        <p:blipFill>
          <a:blip r:embed="rId2"/>
          <a:srcRect l="0" t="0" r="0" b="5355"/>
          <a:stretch/>
        </p:blipFill>
        <p:spPr>
          <a:xfrm>
            <a:off x="1447920" y="2362320"/>
            <a:ext cx="3400200" cy="3200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59600" y="3733920"/>
            <a:ext cx="309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Londo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1219320"/>
            <a:ext cx="6512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population of Lond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05720" y="1523880"/>
            <a:ext cx="10843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4222t001" descr=""/>
          <p:cNvPicPr/>
          <p:nvPr/>
        </p:nvPicPr>
        <p:blipFill>
          <a:blip r:embed="rId2"/>
          <a:srcRect l="13597" t="0" r="16149" b="-3098"/>
          <a:stretch/>
        </p:blipFill>
        <p:spPr>
          <a:xfrm>
            <a:off x="1447920" y="3048120"/>
            <a:ext cx="236196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3200400"/>
            <a:ext cx="38862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t has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f seven mill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0200" y="1523880"/>
            <a:ext cx="6512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capita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thern Ire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129996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20240" y="3505320"/>
            <a:ext cx="28126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Belfas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3440" y="1676520"/>
            <a:ext cx="474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The larger of the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island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s Brit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6920" y="3581280"/>
            <a:ext cx="441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taller of the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oys is T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24382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ich is better of the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ooks, this one or that on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10666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is bett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book or that boo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380988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is the better of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wo boo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one or 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36800" y="82404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84520" y="41767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81040" y="235116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28800" y="1219320"/>
            <a:ext cx="57913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is _______ country,   Canada  or Australi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a large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a larger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the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423540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WHATNOW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1549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28800" y="1066680"/>
            <a:ext cx="57913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the manager had to choose between the two, he would say John was _____ choi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good        B. the b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better      D. the 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75040" y="41911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55000" y="990720"/>
            <a:ext cx="562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etters “UK”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United Kingdom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Britain and North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reland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0120" y="4600440"/>
            <a:ext cx="54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tands for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nited States of Americ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4120" y="467676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S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66680" y="332100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ARS” stands for severe ac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espiratory syndr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74600" y="1371600"/>
            <a:ext cx="493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UK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made up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ur countr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6280" y="3124080"/>
            <a:ext cx="500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ur class is made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f 29 boys and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ir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ower_of_london_and_the_city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3124080" cy="2249640"/>
          </a:xfrm>
          <a:prstGeom prst="rect">
            <a:avLst/>
          </a:prstGeom>
          <a:ln w="0">
            <a:noFill/>
          </a:ln>
        </p:spPr>
      </p:pic>
      <p:pic>
        <p:nvPicPr>
          <p:cNvPr id="53" name="tower_bridge_in_london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3124080" cy="1519200"/>
          </a:xfrm>
          <a:prstGeom prst="rect">
            <a:avLst/>
          </a:prstGeom>
          <a:ln w="0">
            <a:noFill/>
          </a:ln>
        </p:spPr>
      </p:pic>
      <p:pic>
        <p:nvPicPr>
          <p:cNvPr id="54" name="big_ben_at_sunset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27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3880" y="11430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tlan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famou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s beautiful country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4360" y="4267080"/>
            <a:ext cx="57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hina is famous for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reat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2240" y="2666880"/>
            <a:ext cx="518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rance is famous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erfu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7000" y="3371760"/>
            <a:ext cx="519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hina is famous as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untry with a l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5400" y="1600200"/>
            <a:ext cx="483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instein is famous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 inventor.  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8380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re used to b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lot of coal mines in the south, but many of them have been closed, 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 about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be clo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2360" y="3124080"/>
            <a:ext cx="516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re used to be a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ere, </a:t>
            </a:r>
            <a:r>
              <a:rPr b="1" i="1" lang="en-US" sz="4000" spc="-1" strike="noStrike">
                <a:solidFill>
                  <a:srgbClr val="ff99ff"/>
                </a:solidFill>
                <a:latin typeface="Times New Roman"/>
              </a:rPr>
              <a:t>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4880" y="4343400"/>
            <a:ext cx="466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you came in, 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as about to lea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79400" y="1295280"/>
            <a:ext cx="55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don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s a pop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7 mill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7960" y="2763720"/>
            <a:ext cx="523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hina has a 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f 1.3 bill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4222t013" descr=""/>
          <p:cNvPicPr/>
          <p:nvPr/>
        </p:nvPicPr>
        <p:blipFill>
          <a:blip r:embed="rId1"/>
          <a:srcRect l="0" t="0" r="0" b="9930"/>
          <a:stretch/>
        </p:blipFill>
        <p:spPr>
          <a:xfrm>
            <a:off x="1066680" y="4267080"/>
            <a:ext cx="731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022-2-2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2606760" cy="3505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114300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33920" y="1066680"/>
            <a:ext cx="46479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022-2-2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1944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47920" y="106668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581280" y="990720"/>
            <a:ext cx="4648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-1-1" descr=""/>
          <p:cNvPicPr/>
          <p:nvPr/>
        </p:nvPicPr>
        <p:blipFill>
          <a:blip r:embed="rId1"/>
          <a:srcRect l="6464" t="0" r="0" b="0"/>
          <a:stretch/>
        </p:blipFill>
        <p:spPr>
          <a:xfrm>
            <a:off x="1295280" y="1295280"/>
            <a:ext cx="2206800" cy="4267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42560" y="1295280"/>
            <a:ext cx="42055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ritain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ea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Ire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09800" y="2286000"/>
            <a:ext cx="40928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ales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Eng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65160" y="3429000"/>
            <a:ext cx="41310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ngland 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utheast of Brit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71280" y="4648320"/>
            <a:ext cx="38901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don 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iver Th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543800" y="1905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543800" y="29718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543800" y="44197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7543800" y="5181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022-2-2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19440" cy="3657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8040" y="99072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 to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6960" y="2814480"/>
            <a:ext cx="410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 important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106668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40640" y="121932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 very fon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3440" y="28954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581280" y="990720"/>
            <a:ext cx="4648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657600" y="1295280"/>
            <a:ext cx="42829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35920" y="3730680"/>
            <a:ext cx="523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ydney __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s Opera House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60480" y="3733920"/>
            <a:ext cx="29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s famou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3520" y="3279600"/>
            <a:ext cx="549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  ____________ lea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it began to 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7960" y="320364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re about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0" y="3290760"/>
            <a:ext cx="52250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Foreign language stu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_____________ in Kar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Marx's lif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9160" y="3962520"/>
            <a:ext cx="28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layed a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51160" y="3508200"/>
            <a:ext cx="58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e is such a nice girl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 of us ___________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31160" y="4114800"/>
            <a:ext cx="24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re fond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70520" y="3203640"/>
            <a:ext cx="5946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is room is too big. W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ould ________ it 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1120" y="38098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iv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2400" y="373392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71600" y="33526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y   ________   pl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asketball every day w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y were at college.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1840" y="327960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s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990720"/>
            <a:ext cx="63244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F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be made up of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单元四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divide…into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组练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play a part in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听说重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be fond of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学英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39625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EFC is our English text-book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stands for  “Senior English for Chin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2819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wan is to the east of Fuji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371600"/>
            <a:ext cx="64771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ngkong is to the south of Shangha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1640" y="3809880"/>
            <a:ext cx="49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wan is east of Fuji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1280" y="4572000"/>
            <a:ext cx="5071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st of Fujian is Tai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3880" y="23623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ach unit of the book is made up of four lesson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06960" y="1752480"/>
            <a:ext cx="630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EFC is our English text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ook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 stands for  “Seni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nglish for Chin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11520" y="1828800"/>
            <a:ext cx="6237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we have our Englis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lasse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ur teacher usu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ivides us into small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d asks us to pract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peaking and listening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76520" y="1295280"/>
            <a:ext cx="5790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ur teacher says speaking and listening plays an important part in lear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 foreign language. Mo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f us are very fond of learning English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S is made up __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fty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The US is made up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f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fty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______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lef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dow there is a ma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the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zh-CN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n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the lef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dow there is a map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meeting w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 and everyone h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ft the meeting room, he turned ____all the ligh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meeting w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 and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veryone had lef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eeting room, 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rned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 off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ll the ligh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ountryside t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  very beautiful , ____ l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mountains and riv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2000" y="1371600"/>
            <a:ext cx="40442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uangdong lies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outh of Hu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41560" y="37450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2000" y="3429000"/>
            <a:ext cx="40442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uangdong lies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outh of Hu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ountryside there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ry beautiful,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with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ots   of mountains and riv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anghai lies ______the Changjiang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anghai lies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the Changjian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n the building was _____fire, many peo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re trapped 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n the building was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ire, many peo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re trapped 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ainland 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大陆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aiwan Island are separated _____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ainland 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大陆）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aiwan Island are separa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by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tland is ____ the north of England; it’s part of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tland is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to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north of England; it’s part of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 . In one of his book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fessor Wang gave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me advice ____how to improve Engl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nunci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3320" y="1523880"/>
            <a:ext cx="365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eijing lies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rth of Chin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7080" y="3657600"/>
            <a:ext cx="38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ina is in the e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As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.  In one of his book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fessor Wang gave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me advice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 improve Engl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nunci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irst eleph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rrived ____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earch  center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5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irst eleph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rrived </a:t>
            </a:r>
            <a:r>
              <a:rPr b="1" lang="zh-CN" sz="4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at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resear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nter in 195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1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str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arthquake happene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people had to mo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____ a safer pla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11.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After the str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arthquake happene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he people had to mo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to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a safer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94920" y="118908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S00554_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905120" cy="1717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30440" y="28195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1. P 32, Ex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06160" y="3809880"/>
            <a:ext cx="62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. to preview the next un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66800" y="1600200"/>
            <a:ext cx="38138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uhan lies o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angtze Riv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5240" y="31352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66440" y="342900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nghai lies o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uangpu Ri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3048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apan is on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33680" y="266688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8640" y="47242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st of China lies Jap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9000" y="3886200"/>
            <a:ext cx="49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lies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9000" y="1371600"/>
            <a:ext cx="61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lies to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320" y="220968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is to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65400" y="44197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6800" y="335268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75240" y="14479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6094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 Lingdi</cp:lastModifiedBy>
  <dcterms:modified xsi:type="dcterms:W3CDTF">2003-06-10T09:15:37Z</dcterms:modified>
  <cp:revision>699</cp:revision>
  <dc:subject/>
  <dc:title>PowerPoint Presentation</dc:title>
</cp:coreProperties>
</file>